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17B-B2F9-47FB-B44C-9D0E2F4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9EC-2B98-4BDC-983C-7451450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E13-6DEF-499D-B7A6-35476ECB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494-5EE6-4FE4-8B02-13ED2B58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134-1CE6-4579-AD0E-3D7AD5FE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D3F-01A6-404A-9747-537E0F53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BAA-6F53-4CA4-BBF2-51FFF58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F449-2C88-4925-AA9D-BD6E3FC1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EAAE-5CB5-4EAE-A820-F8B7C33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8D9E-0C9E-4EF6-AB69-7CA252E7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F6B-8B37-423A-AFE0-88807C7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E59-1ED0-4604-B6DE-01CDC42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E0F-B0BB-4580-9623-C94DCBB7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ED72-57C3-4543-A0D4-9A28A6A8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70F-A32B-4E36-8AAC-DAA72986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BF8-104C-4477-97BE-381A76D4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5EE0-055A-4BFC-9C3F-71F6630C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B248-86C0-48D0-BCBC-E3E37B6E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96A8-7816-422A-9DCA-B097459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10D0-4A1C-4648-A9CC-E297BD1E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030A-EC4A-4A8A-AFD7-CFA63E0E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9EF5-7ED6-4B36-912D-225ECBFA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A83-1F26-4E8E-B9BB-87C0C738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6C38-763B-4838-B93B-161D9B3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260D-6C46-4668-A39A-D3FFB87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FD20-68DD-4872-A913-E4131C0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0D31-AC87-4164-94A4-B2C4108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5F71-58C3-42E2-A0F5-F4ACB358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9EC2-A77B-48D0-B195-F36F71A9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F0FF-B450-4B1A-8FAF-62B006C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B8DF-0735-46D8-93E8-18DA8B67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6614-2980-47B0-A213-2A22590B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5115-B84D-4D7A-B8A5-CB8FCC53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0AD-E7B0-44F3-8D48-C24FEFA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CD7D-28E5-4B27-9BA8-2DFA7A2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16FF-A36B-4571-BE45-AF87C74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3E97-80D1-4239-8774-9903158D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DFBB-4B94-41BC-B375-15E503F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A231-8118-4D10-A897-0723131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3A91-B403-411D-9632-0616531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A3D0-CF71-47C2-9CEE-5C10F9F2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4995-1235-4677-B420-3627DF47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7F21-F3C8-4938-97B9-3068095A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A8F-AA49-44B6-8B31-369E0C4B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F15-44E1-44AF-9704-F13A59B5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4CE-8EE6-45D9-9227-301771B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562-5B50-4BC9-A2F5-93FB84F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385-AD25-4FC0-AADB-9CA4E2E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DA9-7B01-470F-A23C-1FDBECFE7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CD77-79BD-4636-A863-DB2EB05F8E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C32-37FC-4240-8ED4-5E71852CB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D9E-29C7-406F-87B3-95410911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" TargetMode="External"/><Relationship Id="rId3" Type="http://schemas.openxmlformats.org/officeDocument/2006/relationships/hyperlink" Target="http://video.google.ca/" TargetMode="Externa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nitedstreaming.com/" TargetMode="External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5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oth allow import of raw video fo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t, paste and move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music and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 titles and still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t-in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 to .wmv or .mov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e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fil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C – Movie Maker - .w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e – iMovie - 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forma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players for student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Computers should have all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01318"/>
                </a:solidFill>
                <a:latin typeface="Arial"/>
              </a:rPr>
              <a:t>players – FREE download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play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11430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re are four websites that can help you with more tricks and tips to create great videos – in and out of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 Course in Digital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Guide to making Student Vide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e Make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iMov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aking GREAT Video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762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n-line video storage and sharing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You Tube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e01318"/>
                </a:solidFill>
                <a:latin typeface="Tahoma"/>
              </a:rPr>
              <a:t>Google Vide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owth of video storage sites has grown in past few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 digital video cameras, easy-editing software on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without issues, but can be used for educational purposes with proper supervision an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easily accessible uploading, storage and sharing of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e / share your own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tags - Find other videos for your projec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7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e to embed videos from Google and You Tube into blogs, wikis and other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stud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ideo.google.ca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 Tube &amp; Google Video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d to have VHS videos that we played on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ience, Social Studies most pop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rd to find, acquire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structional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reated videos (MovieMaker / iMovie), formats,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video resources – Web based streaming video sources (media, educational vide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right – software, images,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Copyright – music down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5120" y="17521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 of a few new educational streaming video servic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nual license,          school or district           fee based on              stude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057480" cy="223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archable / downloa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REE trials available – but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nitedstreaming.co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tedstream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4647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ther new educational streaming video servic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nual license, school or district fee based on schoo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3048120"/>
            <a:ext cx="2133360" cy="102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-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archable / not-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safarivideonetwork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afari Video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REAL material has an owner – individual or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01318"/>
                </a:solidFill>
                <a:latin typeface="Arial"/>
              </a:rPr>
              <a:t>House, car, computer, book, tre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about digit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o owns pictures, music and video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What rights do they have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How does this affect us as educators?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or owns copyright       automatically – no need to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material treated same as physical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hotos, drawings, recordings, software, etc. are all owned by individual or organization that created them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Copyright symbol"/>
          <p:cNvPicPr/>
          <p:nvPr/>
        </p:nvPicPr>
        <p:blipFill>
          <a:blip r:embed="rId2"/>
          <a:stretch/>
        </p:blipFill>
        <p:spPr>
          <a:xfrm>
            <a:off x="6781680" y="152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419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ve an obligation to model good citizenship and educate our students on digital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71296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opyright free 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Web search, NB DO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Creative commons licen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Flickr – advanced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ake your ow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othe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purchased music or video, do not reproduce on Interne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Permission from owner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deos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opyr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pecting copyright wit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Use only original softwar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Trial and freeware OK within terms of use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Don’t use file-sharing service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Citation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researching information, it is acceptable to quote or refer to ideas and data expressed as part of presentations 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ant that credit be given to original creator / author in the form of a citation o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rmally at end of document 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to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Repor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resent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Vide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to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Original works or papers (books, articles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Photos or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Da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Web Pag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iting referenced work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primary formats, both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AP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01318"/>
                </a:solidFill>
                <a:latin typeface="Arial"/>
              </a:rPr>
              <a:t>MLA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Reference to author, publisher, title, year of publication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e01318"/>
                </a:solidFill>
                <a:latin typeface="Arial"/>
              </a:rPr>
              <a:t>Slight differences depending on what you are referenc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ols for Referenc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liu.edu/CWIS/CWP/library/workshop/citapa.ht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tatio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ndmarks for School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landmark-project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you believe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ile-sharing music or vide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out paying for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legal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f not, why are so many of 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oung people doing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5715000" cy="5357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/ Technology Plans due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Presentations start Monday after March Break (March 10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160020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cation is really just about telling ou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can be used at all ages and in all curricular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deo Field Trip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hool Media Club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are with other classes &amp; school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create videos to share what they know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ideo in the Classroom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 way to build cross-curricular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terac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ng / Dra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torycenter.org/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video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gital Video Camer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ill 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with Digital Video Edit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ndows XP – Movie Maker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cintosh - iMovi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you ne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88604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Editing Video – Movie Maker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433920" cy="463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057040" y="16002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Editing Video – iMovi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25T18:12:17Z</dcterms:modified>
  <cp:revision>33</cp:revision>
  <dc:subject/>
  <dc:title>Welcome to  ED3862</dc:title>
</cp:coreProperties>
</file>